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185-9669-4712-94B2-1C823B20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C23-B7DA-41ED-B705-3C057BCA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75D-4523-4A5B-A40B-A6B57D71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FF9-059D-480A-8698-3CD6EED1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EE9-FCCA-4568-82E3-31FF37A3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B5A-B9AC-4807-AA37-1B1201D3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8E2-C736-49B4-9A6D-E635EE1D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79D-CC09-4F71-86D0-30F5E14C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338-F26D-4B25-9DA4-1FBF7E5F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443-76AF-453D-8CED-46E37DE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C8F-E27F-4BFF-8EBD-28B7FE8C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F1F-BF99-4E7C-861F-34D9E86F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8D60-4BF0-44F2-BFF0-0A203F0BF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5000"/>
            </a:b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Sometimes we need help when we’re working toward a goal or trying to solve a problem.  When should we work together?  When should we work alone?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6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day we will read about some animals traveling to Bremen Town.  We will read about how and why they work together.  When have you worked with oth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8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oday we will read about Bat.  Bat is alone and sad.  What might make Bat feel better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me animals work as teams.  What things might an animal need help with?  Today we will read about how some animals work toget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3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week we read about animals helping each other to live and enjoy life.  Some formed a singing group, some cheered up unhappy friends, and some kept each other safe and clean.  Why is it often better to work with other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0-10-08T18:26:56Z</dcterms:modified>
  <cp:revision>42</cp:revision>
  <dc:subject/>
  <dc:title> Morning Warm- Up! The cat needs some water.  The dog wants a bone.  That bird lives in a birdhouse where she feels quite at home.  How do people take care of pets?</dc:title>
</cp:coreProperties>
</file>